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CFA4-58BC-412A-A3BE-869A91F8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499-DD1B-4DE1-9B70-8BB7E08708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3B4-EEB5-4F9C-A7ED-B7F66D0CCD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451-CE6C-4AE9-B921-894B3DF0EFE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0E0-FE33-40BB-B3CD-C2B034877F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708-D973-4350-AFBA-17959E7D57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259-8AC9-4F2B-BFF8-CC59339915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57B-E248-4079-AC16-FEA1C5C3A5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328-AA02-4B2C-AC98-A15F310CE70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137-AB79-45AE-A737-331F30E1C5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864A-6333-4579-A547-F6829523D8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4B6-988B-45BA-95EF-E2949F2C19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3F5-FF8F-4C94-8CF2-E9324A60866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42C-A77F-4789-9898-894D3D1F0D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A3C-8292-4D55-883F-5528C8C831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361-ECEC-40E6-95D9-00A3180C4EF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4F4-008A-41A5-8B44-87BE77048AB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B8C-5FAD-4C64-9B4F-C7BDBB0BB04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1C00-5454-41C3-BEB9-873C46464D0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7654-2046-4F27-AF5A-0B9E3E85F28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E7D-F429-41E7-84C4-F426F3483E0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FE92-7059-4E5F-B821-93981586B65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452-AB50-4D3D-94E4-43D2D3E0FBD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9551-B5DC-4A77-A0F2-07AAF49775E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33B-123D-4C45-B057-A92FFD6E46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618-8594-48FC-9DF5-512B6257D6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6C8-48C5-4597-A0D2-189E8805E7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C6E0-4089-4F52-AFBA-3A69D1EC8C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151-51A6-487E-81E6-BB35B105328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20C4-DB16-44BB-B7B6-C512043DBA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2D7-33F3-4EDE-874B-E7119496B9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2B3-12CD-474A-8F92-5843C0370D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A7B8-BB28-4C7D-999B-E6D434A2E4E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1BC-D503-40BC-A7B8-727E30EC97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E99A-05E0-4A83-9D9B-66D4E7FA13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463-DC15-4A2F-8FAD-0E5B9D7EDA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384-4B91-41A8-B089-78C079B5CE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51B-5808-4DBD-8C8A-E0C850976B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E54-93B8-476C-9654-C819E6793C8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129-AF72-4A80-B2EF-95910FFDE3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7A0-234A-48E1-B6A8-BD2AD03D111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75F-E664-4686-A396-8198F56BB0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6FB-77CA-4C78-8773-38F3AD7C02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D57-08A8-4410-9E8D-8D03FC8D7C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814D-B33C-48E5-8CD0-0C4779A00A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9409-8B54-4E97-AA5E-D7FBADB026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D237-4A71-4F13-B43E-3D7CBAF4DB9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1CD0-912E-4FA9-88EE-9DFD9648AD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E8A2-0953-4989-8285-5B0AD46D0E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5A4-8F7D-4EED-A377-AB9B794358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8F76-E015-40A8-98A6-97DD2ABC050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E42-925D-4E76-BFB8-F5AA68020D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371-EAAA-43DA-A7E9-69197BBD1B8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C59-7762-417A-9EFA-C2F1DAAF2F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680-0BD7-4B01-9FE5-D7E24BE1736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19B1-C416-428F-8FAE-297877AA1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FF9D-F3CA-412F-91A9-0F33E299F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54C0-CDED-4CFB-B81E-60470523B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EDFE-99E0-4444-B5F5-93B0F9E3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0DAF-D7FF-4F10-8740-744B4ED95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CF03-510F-4BBE-A620-25D4BDBA1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0EBC-0356-440D-9681-BEE4EB21D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843E-7375-4813-B4DA-9C050B2CA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025C-90B9-4852-9682-E15DAAC18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0D34-242E-43C1-A5D8-DB455A4D7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4F9A-514F-44A6-8657-CBA896B3D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7E44-D4B7-4DBC-AC50-5A23473E0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A00B-2582-489C-B5A7-89EBD3EB570A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7574040" y="63504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82680" y="58752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FCD-BD01-49B6-9D72-06B3CF6E1FE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72B-0AC0-40C9-9570-14EAEA17C4E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D6B8-CEA7-4908-8E75-CA581DE2611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FB8-69C5-431C-A5B7-4AE20609CEC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FAB-9809-4B31-802D-53FC0424B06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16A-3B13-41AF-A19C-662E3617F22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F9D5-620F-4D9E-B54B-49B7700CE01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2BB8-EEF1-4CF8-A90A-12A7920F97F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01C-6084-44FB-9440-B5CC40C3F8E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533-7369-43B2-A219-A270E217796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530B-BCAF-4263-B7E3-BA644CD7869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3A33-CDF2-4EC4-860E-327EC4AEC35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C4A-80EF-48AD-9C13-30DB309F47C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BB4-CB1C-4F82-AF67-28E9682F93E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6931-3782-40CD-82B7-238F1609F30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C3D-FAF0-4791-A8A1-1634E7B801B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7D6-0D60-45B1-B8AB-54758A0FCF4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67A4-88BF-44DA-9B49-8777E0D7125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5CE-F876-4403-8FD4-92F84DFCB7D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629-96E3-4F5F-969B-BC7D8E1CE21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E72-453D-49E0-905F-8A2AD52DEBE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90A-8AB0-404B-A8CD-63351E16B65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6B4F-EEFE-4703-864D-4D7B2B0BEC5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99D-B338-4806-964F-48E718BBD7B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1AFE-4A17-4242-8C91-F90A363BD64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463-A180-44A4-AE2F-4987340227A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2D38-0C32-40EE-A588-4DEAEF4EF9C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39CE-C691-473F-B734-CF5B8B13EE1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FEA-9CA4-4BEC-9EB0-55C13268673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057-B596-46D4-877F-D1BC69F3D62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D82-ECF5-4E1A-8C0B-30DEAF60AB3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63C-7661-4185-8BDD-8BC003A493D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3A0-328E-435E-9D0B-66C007F6813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CA3-C96F-46AA-B2D5-D929F3D501B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B80-332C-4B64-99B8-E3B64BA213A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702-F737-4949-87B9-9F4BC55F383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61B-266D-45E6-AEE8-4D5D7AEEB11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112-AA4D-491D-83F2-8CE29DCDB7C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AB7E-F4EC-4F55-9878-1DC94992DE6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FC1-CA05-484D-804A-3225090807B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3D6-0A09-4892-B89D-1670F728FF4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E20-F0FF-40B8-B463-B1DBCCF1C47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1F40-383E-40BC-8193-A3E36DC4306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9315-EF04-48ED-9468-38591B9C659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578-56A1-4235-BBA7-0E7CE8C5B7C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20E-9D2B-4956-92A9-09E83103410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F2C-8C0E-466F-BD14-61BE0B7DEEC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0F8-43EE-4056-BA86-D3D7680F63E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CE4-967B-48F8-9249-2C7993A657E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88F-5734-4AD9-A171-2BBEE54F2BF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72E5-30F7-43AA-BC4A-5E1CE764E6F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CB2D-6481-4AB9-B61A-42248AF1D2A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93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920-EECF-4A2E-89B3-859CDC335FD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Şenol KAHVECİ</cp:lastModifiedBy>
  <dcterms:modified xsi:type="dcterms:W3CDTF">2011-05-20T10:37:09Z</dcterms:modified>
  <cp:revision>143</cp:revision>
  <dc:subject/>
  <dc:title>Forum Presentation</dc:title>
</cp:coreProperties>
</file>